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D11-95EE-4DD7-B07C-45DA2B7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444-410E-49BD-ABAE-CCC297B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740-0679-49BD-9140-DC0C3425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8AC-6CF4-48E6-82B4-99447C70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ECD-B9F4-4F12-BAE7-C762B43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9B7-068E-4632-B6C5-22D96341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EB3-BF0F-47B6-BDDA-9ED4D0D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C7D-3F36-4C46-8728-C33FDCB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7A5-9465-40C9-8FC4-269E5A2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302-6C6C-4E62-80E7-810B2F7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243-8765-4E8C-8A95-353A4F2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6D8-9A49-4F0A-9C04-1C88334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D12C-5E25-4E9E-9B53-EB5DE7BF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use case and create a collaborative group to build a POC that demonstrates the secondary use of EMR data for patient recruitment for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use case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mezi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o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jay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yotishm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e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: Qualified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Allen/VA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– share with Lill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: Product uses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i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e 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patients may not be available in the E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ness of Inclusion/Exclus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incorporate the har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aspect of EMR shipping to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Database and a funder of clinical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EMR system…. Need for mapp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d for regulatory agencie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Machine Learnining Soci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rater reli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,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pul: Will try to get so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: choose criteria to reduce the type of anonymyz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develop specific criteria and data requirements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onymy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ould come from at least two sources if n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Allen – college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–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nen Fox: Hopefully at leas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yotishm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Marshall: 1 student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anne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ron: Get 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el: 2 students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che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: U Cincinnati – Bruce Aronow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t Sheth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zi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u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ie: !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: 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us: something more 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ian – Rule bases applications … need to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on the next Te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: Federally mandate barrier… Clinicians cannot refer patients for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archer can find cohort and go to the clin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45Z</dcterms:created>
  <dc:creator>Partners Information Systems</dc:creator>
  <dc:description/>
  <dc:language>en-US</dc:language>
  <cp:lastModifiedBy>Partners Information Systems</cp:lastModifiedBy>
  <dcterms:modified xsi:type="dcterms:W3CDTF">2007-11-08T23:01:56Z</dcterms:modified>
  <cp:revision>2</cp:revision>
  <dc:subject/>
  <dc:title>Brainstorming</dc:title>
</cp:coreProperties>
</file>